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102475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2E5-09F5-468A-B9BC-153E43C9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B40-C91E-4883-A7B5-835D3DDB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27F-2051-418D-8ECA-FC11621C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C54-6B06-4025-A96A-03AA89AA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D7C-6A75-485F-9880-4B152588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FED-C81D-46A5-A144-797BF7D8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FF9-FB97-4564-BD15-73600997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D8F-B80C-48DB-BBA6-375A82E9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541-A57D-41BC-8C2C-510FCC26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D38-A13F-4A78-AB0C-D17DCE5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6D3-ADDA-4FA2-BCDD-4AFC0742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FD0-E432-4431-ACA6-BE78E80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8C2D-480C-46EB-B40F-9AEB183F4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5028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Figura 4.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Dinamica manifest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ii principalelor simptome clinice ale subluxaţiei atlantoaxiale 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n timpul repoziţiei prin metoda                      de tracţ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7360" y="450720"/>
          <a:ext cx="842328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450720"/>
                    <a:ext cx="84232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6T07:44:54Z</dcterms:created>
  <dc:creator>savga</dc:creator>
  <dc:description/>
  <dc:language>en-US</dc:language>
  <cp:lastModifiedBy>savga</cp:lastModifiedBy>
  <cp:lastPrinted>1996-11-29T12:13:31Z</cp:lastPrinted>
  <dcterms:modified xsi:type="dcterms:W3CDTF">1996-12-22T15:05:54Z</dcterms:modified>
  <cp:revision>6</cp:revision>
  <dc:subject/>
  <dc:title>Заголовок слайда отсутствует</dc:title>
</cp:coreProperties>
</file>